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637710A-6C7C-4EEC-A83E-40ADFE51B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68E9F28-7BE7-488C-9640-008E9982FEBE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ACED64D-283A-4021-8760-641AB4C4260E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B3745AF-7003-4957-9414-A71BB15C1634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45912EA-5B98-412D-A983-79B1295E09A9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5658DF8-AD8C-4199-A058-7F162B4BF51B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F97EF9D-0772-4145-8D65-7916D035C3FC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380E7CE-F28B-406C-8EC2-61542D5CB444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7507C01-380B-46B9-9BDC-3001176D93BE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F8D68C5-6E9D-473D-A6D0-DB9BD1ABA34B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310FBBB-A308-42CB-A9CB-71777E24EAAE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E5766E2-3667-4370-A8C5-F52835011F9B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ABBDBA2-6998-4090-BA93-F1C978D2B77F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2156D75-18D0-4280-B6A6-480EB444F91B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97FF362-17FE-43B3-A916-854EB0D24F76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66A3-2974-4610-9C73-267D3EF1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1666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97C8-BEE3-4C32-823C-A24573E1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20574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41666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88B0-4DE5-40DA-A797-64BE6F97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20574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20574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1666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41666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41666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D1C3-18F5-434E-8967-F1F796A9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0BE8-071F-4E9B-A019-F07DFF96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F8D2-2BA8-401B-AE7E-D3429079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7D48-5422-4E8D-98F5-8E555D5A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20574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9178-8E98-4481-A27D-7A9CD5D4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A2AB-05DD-469B-A195-A026959B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3818-525F-45F3-82B4-1C255855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20574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1314-86D6-4727-85A4-7F5773F8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A714-A4E3-42C6-87DF-250A949B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20574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41666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20AC-F750-496A-A8E8-9457AB68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20574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B3D6-FCCB-4DD3-8708-8C8A559A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41666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620F-D221-49D7-86ED-CEA3CBDC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20574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41666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856A-E992-4DF8-8C3A-7C45F3466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20574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20574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41666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41666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41666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C0B0-57CB-4269-9552-6DD2040AF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13F7-9AB6-4065-A182-C03E2ECE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20574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DA3F-B0D9-4DD3-9836-40A99AA4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8780-DF99-4224-84AC-FE60CC50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5DEA-59B7-4771-8919-7623E31D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20574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C247-851C-44D1-9C5D-A651C1A0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20574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41666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FCE1-6B20-42C5-8B9B-A06C21A4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20574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3888-F9E5-4C0D-8CE2-98B1250C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971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19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671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C310-ED39-45EF-AF76-EE3BCB48A1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981080" y="6248520"/>
            <a:ext cx="335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391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110C-4F05-4D32-BEE7-61BD6FE6A85E}" type="slidenum"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 Black"/>
              </a:rPr>
              <a:t>Differentiated Instruction</a:t>
            </a:r>
            <a:endParaRPr b="0" lang="en-US" sz="32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920" y="8380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thinking Our Classroom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 Black"/>
              </a:rPr>
              <a:t>10 Approaches to Avoid When Differentiating Assessment and Grading</a:t>
            </a:r>
            <a:endParaRPr b="0" lang="en-US" sz="28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2057400"/>
            <a:ext cx="4114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Nonacademic Facto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ultiple Attempt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Homewor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ithholding Assistanc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Non-accurate indication of master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2057400"/>
            <a:ext cx="4114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xtra credit and bonus point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Group Grad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Grading Curv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Zero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Norm-referenced terms for criterion-referenced attribut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Nonacademic Factors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void incorporating nonacademic factors, such as behavior, attendance, effort, into the final grade. 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articipation – “on route to mastery”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bjective grading of effort and behavior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Multiple Attempts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void penalizing students’ multiple attempts at mastery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arachute Packing Scho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Homework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void grading practice (homework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Homework is never to learn material the first time aroun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on’t or can’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fferentiated homewor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Withholding Assistance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void withholding assistance (not scaffolding or differentiating) with the learning when it’s neede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upporting graphic organizers, notes, etc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lgebra teach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 Black"/>
              </a:rPr>
              <a:t>Extra Credit and Bonus Points</a:t>
            </a:r>
            <a:endParaRPr b="0" lang="en-US" sz="36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void allowing extra credit and bonus points.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chievement, competency, master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Group Grades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void Group Grade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ividual student achievemen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erc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nhealthy peer press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Grading Curve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void Grading on a Curv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proverbial bel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Norm-reference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No reference to master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andings not standard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storting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Zeros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void Recording Zeros for Work Not Don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kew the grad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Lessens the usefulness of the grad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 Black"/>
              </a:rPr>
              <a:t>Norm-referenced Terms for Criterion-referenced Attributes</a:t>
            </a:r>
            <a:endParaRPr b="0" lang="en-US" sz="32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void Using Norm-Referenced Terms to Describe Criterion-Referenced Attribute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Norm-Referenced v. Criterion-Reference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Objectives…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RAFT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ubing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Jigsaw Activit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Grading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iered Assignment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Six Burning Issues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Zero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Grading Gifted Student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eighting Grade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utomaticity Versus Concept Attainmen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Grading Late Work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Grading Special Needs Students in Inclusion Classe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Tiered Lessons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Instructional Strategy that is differentiated usually by readiness level.  Students work with essential knowledge, understanding, and skill but at levels of difficulty appropriately challenging for them as individuals…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Tiered Lessons</a:t>
            </a: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early establish standards/anchors, essential knowledge, understandings, and skill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velop one activity or product assignment that is interesting and engaging and requires high level of thinking – start with an “advanced level activity” – likely to raise sights for other learn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udents are no better than the assignments that they are given…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Tiered Lessons</a:t>
            </a: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Determine students’ readiness levels based on pre-assessment, ongoing assessment, and basic knowledge of student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Develop several versions of the original task to address a range of learner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Use “The Equalizer”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The Equalizer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ndational to Transformationa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ncrete to Abstrac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mple to Complex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ngle facet to Multiple facet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mall leap to Great leap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ore structured to More ope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Less independence to Greater independenc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low to Quic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Tiered Lessons</a:t>
            </a: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andards/Ancho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ssential Understanding/Knowled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ssential Skill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ree Ti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ther Considerations…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How are you going to determine group dynamic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How are you going to asses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What is homework going to look like following a tiered assignment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 Black"/>
              </a:rPr>
              <a:t>Classroom Instruction That Works</a:t>
            </a:r>
            <a:endParaRPr b="0" lang="en-US" sz="36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Interest Surve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KW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Learning Menu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Understanding By Design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UBD – Understanding By Design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e Backward Design Proces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age 1 – Identify Desired Result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age 2 – Determine Acceptable Evidenc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age 3 – Plan Learning Experiences and Instruc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533520" y="1066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 Black"/>
              </a:rPr>
              <a:t>Stage 1 – Identify Desired Results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335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tart with the end in mind…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at should students know, understand, and be able to do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at is worthy of understanding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at enduring understandings are desired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6858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 Black"/>
              </a:rPr>
              <a:t>Stage 2 – Determine Acceptable Evidence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How will we know if students have achieved the desired results and met the standards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hat will we accept as evidence of student understanding and proficiency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RAFT Activities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ole, Audience, Format, Topic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udents take on a particular Role, develop a product for a particular Audience in a particular Format and on a Topic that gets right to the essential learnings and understandings in a particular unit of stud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fferentiated by…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adines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nterest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Learning Profil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 Black"/>
              </a:rPr>
              <a:t>Stage 3 – Plan Learning Experiences and Instruction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What enabling knowledge (facts, concepts, and principles) and skills (procedures) will students need to perform effectively and achieve desired result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What activities will equip students with the needed knowledge and skill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What will need to be taught and coached, and how should it best be taught, in light of performance goal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What materials and resources are best suited to accomplish these goal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s the overall design coherent and effective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Cubing</a:t>
            </a: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Planned for readiness, interest, or learning profil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tudents have option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If used as culminating activity – be sure to provide generic rubric for each side of cub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Jigsaw Activity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Learning Center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Differentiated Lectu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ompacting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Grading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hy do we grade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lides and information on grading from – </a:t>
            </a:r>
            <a:r>
              <a:rPr b="0" i="1" lang="en-US" sz="2800" spc="-1" strike="noStrike">
                <a:solidFill>
                  <a:srgbClr val="336699"/>
                </a:solidFill>
                <a:latin typeface="Arial"/>
              </a:rPr>
              <a:t>Wormeli, Rick. Fair Isn’t Always Equal: Assessing and Grading in the Differentiated Classroom.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Why Do We Grade?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Document student and teacher progres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Provide feedback to the student and family, and the teacher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Inform instructional decision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Why Do We Grade?</a:t>
            </a: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o Motivate Student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o Punish Student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o Sort Student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Grades as motivators breed dependence, reduce risk-taking, creativity and value. (Rick Stiggins)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 grade represents a clear and accurate indicator of what a student knows and is able to do – mastery.  With grades, we document the progress of what students and our teaching, we provide feedback to students and their parents, and we make instructional decisions regarding the students”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17:10:25Z</dcterms:created>
  <dc:creator>Philip J. Pockey</dc:creator>
  <dc:description/>
  <cp:keywords/>
  <dc:language>en-US</dc:language>
  <cp:lastModifiedBy>ccotner</cp:lastModifiedBy>
  <dcterms:modified xsi:type="dcterms:W3CDTF">2008-06-19T03:37:20Z</dcterms:modified>
  <cp:revision>11</cp:revision>
  <dc:subject/>
  <dc:title>Differentiated Instr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451033</vt:lpwstr>
  </property>
</Properties>
</file>